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move the slide</a:t>
            </a:r>
            <a:endParaRPr b="0" lang="en-US" sz="5400" spc="-1" strike="noStrike">
              <a:solidFill>
                <a:srgbClr val="dbbd71"/>
              </a:solidFill>
              <a:latin typeface="Arial"/>
            </a:endParaRPr>
          </a:p>
        </p:txBody>
      </p:sp>
      <p:sp>
        <p:nvSpPr>
          <p:cNvPr id="155"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4437-A4C4-4CCC-8D1B-2FDADBFE12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come, I’m Niall Litchfield and I work as a DBA for the Audit Commission, which is the public sector body charged with appointing auditors to other public sector bodies. We also produce reports detailing how well, or not, our tax money is being spent. I’m also a member (think of me as the junior secretary) of the Oak Table network which you may just have heard of. If you haven’t then catch me, Mogens or one of the other guys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he next 40 minutes or so we will be looking at some of the myths, misconceptions and plain idiocies that we encounter in the Oracle world. This presentation started as a result of a discussion on usenet last year so if you were there, or if you are a member of the Oracle-L mailing list then I’ll overlook the sn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fortunately I cannot promise you the sight of Squirrels getting hammered, to see that you will have to beg, buy, borrow or steal a ticket to a meeting at which Connor McDonald is presenting. I can however promise you something that is in my view much better, getting you guys to do some of the work whilst I look on. That’s my kind of presentatio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ing what the CBO does is of course well beyond the scope of a slide. In fact it is well beyond the scope of a presentation – there is something that can be done about that as we will see later. However it is important – especially with the imminent release of 10i – to understand what the CBO is trying to achi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tart by asking what it is that the Rule Based Optimser does. This link shows (I believe but have not verified) the 13 operations that the rule based optimiser uses. These can be helpfully thought of as a ‘precedence order’, that if you can match an index to a constant this is always better than a FTS. I’m not qualified to say if this is actually how the optimiser is coded, but observationally this seems to be its effect. Moreover it is documented this way in various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BO has , at least, three different a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is to recognize that applying rules in a strict order doesn’t necessarily result in a good execution plan, in fact it can result in a bad plan, and it does this too often. The result of this was the industry in training and development of developers teaching them how to code to suit the optimise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 have had a real hard time trying to track down the basis of this myth. Simply put it looks like this has been a myth since at least Oracle 6 and probably Oracle 5 though that was before my time. It certainly used to be true that there were low limits for the number of extents an object could have (121 on a typical unix box with a 2k block size) and if you ran out of extents the app stopped and a reorg was required. 121 is hardly the same as 1 or even 10.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other possible source is the default (still not changed in 8i) for the export parameter COMPRESS, which is Y or TRUE. Many times if Oracle sets a default for something then the assumption is that it is a good value to choose. This leads to, for example TODO mB sized SGAs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other concern offered is that objects should not be frequently extending as the data dictionary work is expensive. The work is indeed expensive, but the solution is not to avoid it, but to attempt to schedule it appropriately. POSS Include demo/stats from concurrent sessions.</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also seems to have been accepted a long time ago (for example Guy Harrison writing in 1997 says ‘There is a strong argument for arranging objects into tablespaces based on uniform extent sizes’ (he does however state that you therefore need 6 tablespaces split small/med/large tables and small/med/large indexes helping perpetuate another myth.</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next problem is how on earth do you enforce this? Database objects grow, its what they do. How do Oracle database objects grow – by acquiring more extents. If your table has two extents then , following the rule strictly, its is time for a reorg. When do objects grow – when people put data into them? i.e. during peak time. So the strict application of the rule pretty well guarantees you discover that you need a reorg during peak time. Of course no-one applies this. Also no one applies the reorg when you have two extents rule, typically they wait for 10, or 50 or 100.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lly on the problem list with this myth is the fact that nearly all apps are in fact closed source COTS packages. There is no way on earth to enforce this rule if you don’t have access to the object creation statements, and if as is usually the case messing with these results in a desupported system.</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 as of 8i there is now a built in option which </a:t>
            </a:r>
            <a:r>
              <a:rPr b="1" lang="en-GB" sz="800" spc="-1" strike="noStrike">
                <a:solidFill>
                  <a:srgbClr val="000000"/>
                </a:solidFill>
                <a:latin typeface="Arial"/>
              </a:rPr>
              <a:t>enforces </a:t>
            </a:r>
            <a:r>
              <a:rPr b="0" lang="en-GB" sz="800" spc="-1" strike="noStrike">
                <a:solidFill>
                  <a:srgbClr val="000000"/>
                </a:solidFill>
                <a:latin typeface="Arial"/>
              </a:rPr>
              <a:t>the recommendation from 1997. Locally managed tablespaces have the following advantages that confirm this myth as a myth.</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st most of the DD operations that occurr in DMTs are now carried out at the tablespace level in a bitmap operation. This is far less expensive for two main reasons</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ou replace several updates of dd tables with a single update to a bitmap.</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ou replace one scarce resoure the ST enqueue with several – one per tablespace.</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y placing objects in tablespaces that contain same sized extents monitoring becomes easy to do on an exception basis and in an appropriate timeframe.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ast point, that it is good to use LMTs leads us to our last Myth.</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 this talk of reorgs and sizing extents appropriately leads us onto another common recommendation. ‘set PCTINcrease to 1%’. The problem is of course (yet another) absolutely disastrous Oracle default of 50% which leads to fragmentation in record time. 1% leads to objects extent sizes growing at a far far smaller rate and so there is a much increased likelihood that free space can be used. Critically if PCTINcrease is set to zero SMON never kicks in to coalesce free space. Thus you will get fragmentation but the scheduled </a:t>
            </a:r>
            <a:r>
              <a:rPr b="0" i="1" lang="en-GB" sz="800" spc="-1" strike="noStrike">
                <a:solidFill>
                  <a:srgbClr val="000000"/>
                </a:solidFill>
                <a:latin typeface="Arial"/>
              </a:rPr>
              <a:t>defragmenter </a:t>
            </a:r>
            <a:r>
              <a:rPr b="0" lang="en-GB" sz="800" spc="-1" strike="noStrike">
                <a:solidFill>
                  <a:srgbClr val="000000"/>
                </a:solidFill>
                <a:latin typeface="Arial"/>
              </a:rPr>
              <a:t>won’t kick i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However there are some serious issues with this recommend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st customers buy packaged apps. Modifying the schema creation scripts for these apps is either impossible, unsupported or both.</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mporary tables, if your app (especially where you don’t have access to the source/sql definitions) create permanent tables to hold intermediate results (as any that support Oracle 8 will) then you also have to control pctincrease on these table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our dev/dba has to make sure that they never, ever accidentally forget the storage clause or override the default one with inappropriate values. Of course DBA’s are incapable of making mistakes but I’m not so sure about developers </a:t>
            </a:r>
            <a:r>
              <a:rPr b="0" lang="en-GB" sz="800" spc="-1" strike="noStrike">
                <a:solidFill>
                  <a:srgbClr val="000000"/>
                </a:solidFill>
                <a:latin typeface="Wingdings"/>
                <a:ea typeface="Wingdings"/>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most serious issue of course is that there is a symptom/cause confusion going on here. To avoid fragmentation you should only ever have one  value for PCTINCREASE – 0. This needs to be done in conjunction with INITIAL=NEXT. If you can enforce this there is no need for SMON to coalesce free space. You can always fit more extents in until the available space is taken up. This room is a great example. There is a default allocation unit – the chair which is the same throughout. You are all fragmented (with a tendency to locate at the end of the file). We can always fit another person in until the room is full – I should be so luck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ior to Oracle 8i this policy PCTINCRFEASE=0,INITIAL=NEXT could be applied by the DBA but suffers from at the very least the first two drawbacks (assuming we have now ‘educated’ the dev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as we saw above Oracle introduced in 8i the concept of a locally managed tablespace which ( as well as its other advantages) means that the above policy can be </a:t>
            </a:r>
            <a:r>
              <a:rPr b="1" lang="en-GB" sz="800" spc="-1" strike="noStrike">
                <a:solidFill>
                  <a:srgbClr val="000000"/>
                </a:solidFill>
                <a:latin typeface="Arial"/>
              </a:rPr>
              <a:t>enforced</a:t>
            </a:r>
            <a:r>
              <a:rPr b="0" lang="en-GB" sz="800" spc="-1" strike="noStrike">
                <a:solidFill>
                  <a:srgbClr val="000000"/>
                </a:solidFill>
                <a:latin typeface="Arial"/>
              </a:rPr>
              <a:t> by the RDBMS. It may mean that objects get more extents than the dev intended if they spec initial=&lt;some large value&gt; at creation (so the one extent idea dies), but really so wh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m going to break with my premise here and offer a recommendation at this point and suggest that you pick at least 3 extent sizes all roughly an order of magnitude different (we use 128k,4m and 64m)and alllocate objects to them so that each object is unlikely to use more than 100 extents. This , in general, is in turn likely to mean that the growth pattern is predictable with objects adding extents at a fairly slow rate. The aim is not to restrict object size to less than n extents, but to get regular but not too frequent growth so that space requirements can be more reliably estima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before we throw it open to discussion, suggestions etc let me suggest a way forward for considering design for performance, both at the application level and at the logical/physical design level. The first thing to note is that rules of thumb are only ever at best second best – which is not to say that second best might not be good enough, in commercial terms Oracle Corp is the second best software company in the world after all. Often though rules of thumb are based on myth and misconception and so can actually distract you from what is important – the historical focus on tujning by amending ratios is evidence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ay forward that I am going to suggest is hardly new, but seems often to be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state your assumptions. (eg Each additional extent harms the performance of the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 test them to see if they hold (how long does a FTS take for a table with 10 extents of 10m each as opposed to one of 100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need multiple tests (eg multiple sessions running insert loops will highlight the effect of UET/FET con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need to retest under new releases. New features that may help you out (maybe even RAC you never know) may have unexpected side effects/bugs which get ironed out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be sceptical, people all make mistakes or say things which perhaps hold true in a specific environment bujt which do not make sense when applied gener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agree on Oracle’s complexity some 10000 or so pages of documentation, gb’s of technical articels at technet and meta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ant to simplify and condense things down to some simple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in the thousands of pages of docs and books, in all the talks you’ll hear here there will be errors. Hell most of us can’t write a few hundred lines of code without error – some of us can’t type select reliably but that’s another story. So when you do read claims about oracle think about their validity first but don’t believe it just because its in an oracle press book or you get told it by a conference speaker or you pick it up off some ‘personality’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here is a screenshot from a tool developed in house by myself and another member of the Oak table network whom I won’t name in order to spare their blus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should you be d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the first thing is knowing what you are trying to achieve. Targets like minimum response time are good though sub 5 second response time is better – it is quantified. Similarly with downtime quantify it and split between planned and unplan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list what you are going to try to achieve this. For example you might have an mttr target. Well simulate the crash and benchmark the mttr. Then docment the actual effect of changing parameters. What does log_check_point_interval actually do in you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cument your assumptions (a hard task). Note that it is itself a false story. Oracle eg Disk IO is x thousand times slower than Oracle memory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is to formulate targets in terms of business needs, mttr to recovery is good, because you can translate this as ‘the billing system won’t take more than 15 minutes to recover from the time the business requires it to be recovered’ Managers like this. Targets like ‘My hard parse ratio will be lower than 25%’ translate into ‘My geek is giving me some technobabble’. This is not a good thing. To take an example from my work. I recently tuned a query so that it no longer used 1.5m LIO per call but 2500. Now it’s quite nice to claim an io reduction of 99.9%, but that wasn’t the measure the business liked. Producing month end reports the next day instead of on working day 6 was much mor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s probably generally known that speakers who have an Oak Table affiliation are not exactly fans of the find a hit ratio and improve it tuning methodology, What I would hate to see though is a switch from following the HR advocacy group to the ‘wait interface’ advocates. The key is to test, test, refine ideas, test, modify another system,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lmost forgot. You’re supposed to test this stuff. Seriously why would you do anything except that it measurably affected your system, Always compare against doing nothing. Oftentimes doing nothing will be acceptabl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are the 5 oracle myths we will look at in some depth. Simple rules we believe to be true, for most of us this is because we have read it somewhere or heard it from a platform like this. This list is not exhaustive and almost certainly I believe 6 impossible things about oracle before breakfast each day as well. We’ll see what can be done about  that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perating data and indexes improves performa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igh buffer cache hit ratio is goo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most selective column first when creating a concatenated index</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re objects in as near as possible 1 ext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t pctincrease to zero for tables and 1% for tablespa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you intrigued yet. Many dbas will follow at least one of these rules. When I first started the thread on usenet I was deluged by two sorts of feedback. The first was – are you sure, we use these rules all the time. The second was So what rules should I be using. On the whole I prefer the first feedback because it shows that at least people were thinking, even if the thought was that Niall bloke is mad. The second sort of feedback says “Everything I know is wrong, please tell me what’s right” which I translate as “Its only my job, why should I be bothered to think about i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 if I am right and these are myths , do we hold on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because myths almost all have a basis in fact. The pctincrease myth we’ll see is especially strong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Oracle release new software facts change. My favourite example of this concerns the SYSTEM tablespace which cannot be a locally managed tablespace – so is likely amongst other things to fragment. That’s why audit$ gets moved out of it (if you have any sense at all) even though the docs tell you that this is (ludicrously) un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9i release 2 however not only can the system  tablespace be an LMT it most likely </a:t>
            </a:r>
            <a:r>
              <a:rPr b="1" lang="en-US" sz="1200" spc="-1" strike="noStrike">
                <a:solidFill>
                  <a:srgbClr val="000000"/>
                </a:solidFill>
                <a:latin typeface="Arial"/>
              </a:rPr>
              <a:t>will</a:t>
            </a:r>
            <a:r>
              <a:rPr b="0" lang="en-US" sz="1200" spc="-1" strike="noStrike">
                <a:solidFill>
                  <a:srgbClr val="000000"/>
                </a:solidFill>
                <a:latin typeface="Arial"/>
              </a:rPr>
              <a:t> be an LMT since the easiest tool for database creation defaults to creating an L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you need to know what your assumptions are and test them. The lighthouse  (note it’s a false story that works because we assume that Military Intelligence is an oxymoron) . Setup a test of your decision and see what happens. I’ll illustrate some of this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ceptical. When an oracle ‘expert’ says something certainly listen but check it out. If two experts say contradictory things the only way you can tell which is right – or more likely which is right for your oracle version is to benchmark. Of course when the </a:t>
            </a:r>
            <a:r>
              <a:rPr b="1" lang="en-US" sz="1200" spc="-1" strike="noStrike">
                <a:solidFill>
                  <a:srgbClr val="000000"/>
                </a:solidFill>
                <a:latin typeface="Arial"/>
              </a:rPr>
              <a:t>same </a:t>
            </a:r>
            <a:r>
              <a:rPr b="0" lang="en-US" sz="1200" spc="-1" strike="noStrike">
                <a:solidFill>
                  <a:srgbClr val="000000"/>
                </a:solidFill>
                <a:latin typeface="Arial"/>
              </a:rPr>
              <a:t>expert gives contradictory advi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ll know this one. You have a tablespace users or user_data into which go all our tables willy nilly and one called indx into which go all our indexes. Put them on different disks and voila you separate io automagicall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goal of distributing io is good. We don’t want io hotspots. The question is does this rule achieve it. As far as I can tell this myth started with the Oracle DBA Handbook, by Kevin Loney and published by Oracle Press.  </a:t>
            </a:r>
            <a:r>
              <a:rPr b="1" lang="en-GB" sz="1000" spc="-1" strike="noStrike">
                <a:solidFill>
                  <a:srgbClr val="000000"/>
                </a:solidFill>
                <a:latin typeface="Arial"/>
              </a:rPr>
              <a:t>Get quote of goal and ru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stly access is serial not concurrent. Oracle will read the index and then read the table block (if necessary). It doesn’t do them both at the same ti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 if the rule did hold true what happens with a second user on the system also requesting data from the same disk at the same ti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ually of course you will always (even in a single user system) have multiple users. If I do ‘select * from v$session’ I’ll find DBWR,LGWR and SMON kicking around. DBWR and SMON both write to datafiles. DBWR every 3 second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of course there is an implicit assumption that an Oracle Physical  IO corresponds to a physical IO, if the file system is raw this is (probably) true. If you use a file system then this is clearly untrue, it corresponds to a call to the file system. File systems cache 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for those of you lucky enough to have nice  big SANs, vendor supplied arrays etc there will be another layer of abstraction in the caching disk controllers, logical volume managers etc. All of these again put cache in the way of the read/wr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other objects that are “always read/written to together” eg parent/child tables. Where is the recommendation to separate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VEAT So there is no point in separating index and data? Well maybe not, but maybe. For example you might consider that index data is logically redundant (it is) and therefore should be backed up on a different schedule to actual business data. The logical unit of backup is first a datafile and next a tablespace.  Personally I’d only ever consider this given extremely tight backup windows or very large data volumes but of course this maybe purely down to having a largest backup requirement of 50gb, and that on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s is absolutely correct, physical reads *do* cost more than logical reads.  The frequent assumption that they cost thousands of times more is not. Tests have shown that the difference is measured in tens of times. Link to tes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Link to form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get two people on one side, pick 8 on another. To the first guy give a message ‘physical reads are bad’. To the first of the eight give another ‘logical reads are good’. Get the second set standing up, play chinese whispers with one modification (you have to get up before your listen or spea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ors choose_a_hit_ratio.sql </a:t>
            </a:r>
            <a:r>
              <a:rPr b="1" lang="en-GB" sz="1200" spc="-1" strike="noStrike">
                <a:solidFill>
                  <a:srgbClr val="000000"/>
                </a:solidFill>
                <a:latin typeface="Arial"/>
              </a:rPr>
              <a:t>demo using cary’s perlscript</a:t>
            </a:r>
            <a:r>
              <a:rPr b="0" lang="en-GB" sz="1200" spc="-1" strike="noStrike">
                <a:solidFill>
                  <a:srgbClr val="000000"/>
                </a:solidFill>
                <a:latin typeface="Arial"/>
              </a:rPr>
              <a:t> Aside about being paid by the hit ratio. The point if pick a hit ratio, is not of course to pick a hit ratio but that the exceptionally bad query gives you very good ‘performance fig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ther big issue with the BCHR discussion is how to calculate the BCHR – especially with the improved access methods available since 8i and especially 9i. JL has a paper (available at the usenet faq site) showing a number of new access methods that don’t show up in ‘consistent gets’+’physical reads’. EG buffer is pin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al is (as with DBAs) do the maximum work for minimum effo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yth is a classic example of something that may once have had some validity, but which has become more and more inappropriate over time as we will see later. However the following example is worth looking at (link to docs extract). The important point to note is that there is a slip from the initial statement that you should put the most used column first in a concatenated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y case The base premise is suspect, since the CBO is essentially trying to base its estimates on the number of blocks that are likely to be accessed, a figure which is affected by the selectivity for sure, but also and far more by both the number of leaf blocks in the index and the clustering factor for the data. It has been pointed out to me by Julian Dyke of BM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s this attempt to read as few blocks as possible that has led to the ‘rule’ becoming ever more out of date. In 8i Oracle introduced index compression. This works best if the leading column of the index is the least selective, as the leading value(s) – i.e. the compressed columns is stored once per index block and then the rest of the data is stored in the body of the bloc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018BF-0423-4EB5-9470-6F52ADCC8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50D3C-1D1C-4436-BEF5-44A48AE5B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ADDB7-68E8-4FDB-AB3E-035609D73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93623-5FD1-4307-9160-6E9753B6B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37EB6-318C-4BE4-B542-28F37920F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F5507-619D-4542-875A-6B4781C31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4EBB3-8D6B-404C-AFFE-0CF3BA817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FB271-B1B2-40DE-8375-83B6807FD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726F2-2333-409A-AC2F-390457DC7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6DE88-C782-4E33-9FC3-366F10C35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2188A-9EFA-4DE8-A516-2921CE872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FDA0B-DC5A-47E9-8C27-85D615442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526D4-CB15-4EB4-882B-BD27ECBDE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0CA33-6753-4A12-9272-1CA74077F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7C53B-E002-4B54-B39C-F10B1F6B9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DA481-2DD4-4006-8D3B-E99CAAE6B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8812A-4A4E-473F-B2E8-80D456364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2417C-C9ED-4E70-A80C-38FB9AC7F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953B7-9E94-4F88-9329-C5073A4A1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635C-E918-4017-8F9F-1215CC193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116C5-DA98-4877-B3EC-016114B37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05719-223E-426A-A9D0-D3BF95457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5ACA-4259-4230-8A74-77877A3B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1A414-6042-4F3B-84B8-B566C9CF7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292A-916F-4908-B69F-7BD98DB52AD8}" type="datetime">
              <a:rPr b="0" lang="en-US" sz="1200" spc="-1" strike="noStrike">
                <a:solidFill>
                  <a:srgbClr val="ffffff"/>
                </a:solidFill>
                <a:latin typeface="Tahoma"/>
              </a:rPr>
              <a:t>07/29/26</a:t>
            </a:fld>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A159-DBAB-4B64-8978-4CC0E42E5AA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7C1F-CCE5-4303-B513-920344882736}" type="datetime">
              <a:rPr b="0" lang="en-US" sz="1200" spc="-1" strike="noStrike">
                <a:solidFill>
                  <a:srgbClr val="ffffff"/>
                </a:solidFill>
                <a:latin typeface="Tahoma"/>
              </a:rPr>
              <a:t>07/29/26</a:t>
            </a:fld>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59FF-EA13-40B2-916F-7FDCA58B761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ReadBlockPseudoCode.htm"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IndexOrdering.htm" TargetMode="External"/><Relationship Id="rId2" Type="http://schemas.openxmlformats.org/officeDocument/2006/relationships/hyperlink" Target="file:///indexexample.txt"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Oracle Myths – </a:t>
            </a:r>
            <a:br>
              <a:rPr sz="4800"/>
            </a:br>
            <a:r>
              <a:rPr b="0" lang="en-US" sz="3200" spc="-1" strike="noStrike">
                <a:solidFill>
                  <a:srgbClr val="dbbd71"/>
                </a:solidFill>
                <a:latin typeface="Arial"/>
              </a:rPr>
              <a:t>Avoiding Bad Ideas in Oracle Management</a:t>
            </a:r>
            <a:endParaRPr b="0" lang="en-US" sz="3200" spc="-1" strike="noStrike">
              <a:solidFill>
                <a:srgbClr val="dbbd71"/>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all Litchfiel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acle DBA</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Niall Litchfield - Audit Commission</a:t>
            </a:r>
          </a:p>
        </p:txBody>
      </p:sp>
      <p:sp>
        <p:nvSpPr>
          <p:cNvPr id="5" name="PlaceHolder 4"/>
          <p:cNvSpPr>
            <a:spLocks noGrp="1"/>
          </p:cNvSpPr>
          <p:nvPr>
            <p:ph type="sldNum" idx="6"/>
          </p:nvPr>
        </p:nvSpPr>
        <p:spPr/>
        <p:txBody>
          <a:bodyPr/>
          <a:p>
            <a:fld id="{531C89DA-82AD-4AA8-BFDE-307BC61ADE90}" type="slidenum">
              <a:t>1</a:t>
            </a:fld>
          </a:p>
        </p:txBody>
      </p:sp>
      <p:sp>
        <p:nvSpPr>
          <p:cNvPr id="6" name="PlaceHolder 5"/>
          <p:cNvSpPr>
            <a:spLocks noGrp="1"/>
          </p:cNvSpPr>
          <p:nvPr>
            <p:ph type="dt" idx="4"/>
          </p:nvPr>
        </p:nvSpPr>
        <p:spPr/>
        <p:txBody>
          <a:bodyPr/>
          <a:p>
            <a:fld id="{DE8CE042-0C58-4676-9CAE-0477A833FBFB}"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now what the Optimiser Does</a:t>
            </a:r>
            <a:endParaRPr b="0" lang="en-US" sz="44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BO Oper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yths about CB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0053 Trace (result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Brietling 2002</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mina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948C53CC-4EE6-49A9-9FAC-27E2C2E4995E}" type="slidenum">
              <a:t>10</a:t>
            </a:fld>
          </a:p>
        </p:txBody>
      </p:sp>
      <p:sp>
        <p:nvSpPr>
          <p:cNvPr id="6" name="PlaceHolder 5"/>
          <p:cNvSpPr>
            <a:spLocks noGrp="1"/>
          </p:cNvSpPr>
          <p:nvPr>
            <p:ph type="dt" idx="1"/>
          </p:nvPr>
        </p:nvSpPr>
        <p:spPr/>
        <p:txBody>
          <a:bodyPr/>
          <a:p>
            <a:fld id="{F50003C6-7461-44EA-9473-165CCA0C61A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tore objects in one extent</a:t>
            </a:r>
            <a:endParaRPr b="0" lang="en-US" sz="44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basis – unknow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t>
            </a:r>
            <a:r>
              <a:rPr b="0" lang="en-GB" sz="3200" spc="-1" strike="noStrike">
                <a:solidFill>
                  <a:srgbClr val="ffffff"/>
                </a:solidFill>
                <a:latin typeface="Tahoma"/>
              </a:rPr>
              <a:t>There is a strong argument for arranging objects into tablespaces based on uniform extent siz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You can’t do it anywa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ckaged app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ore in LMT tablespaces of appropriate size exten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3434648B-B789-43CC-8477-7122E490D345}" type="slidenum">
              <a:t>11</a:t>
            </a:fld>
          </a:p>
        </p:txBody>
      </p:sp>
      <p:sp>
        <p:nvSpPr>
          <p:cNvPr id="6" name="PlaceHolder 5"/>
          <p:cNvSpPr>
            <a:spLocks noGrp="1"/>
          </p:cNvSpPr>
          <p:nvPr>
            <p:ph type="dt" idx="1"/>
          </p:nvPr>
        </p:nvSpPr>
        <p:spPr/>
        <p:txBody>
          <a:bodyPr/>
          <a:p>
            <a:fld id="{8DA1BE15-E64C-48E2-85FD-A674BF7C6525}"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bbd71"/>
                </a:solidFill>
                <a:latin typeface="Arial"/>
              </a:rPr>
              <a:t>Set PCTIncrease</a:t>
            </a:r>
            <a:endParaRPr b="0" lang="en-US" sz="44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basis – avoid fragment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ckaged app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mp tabl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BA/dev oversigh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ymptom/Problem confus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better way LM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EFC063FA-0B75-442D-B025-BFE068EF2BDA}" type="slidenum">
              <a:t>12</a:t>
            </a:fld>
          </a:p>
        </p:txBody>
      </p:sp>
      <p:sp>
        <p:nvSpPr>
          <p:cNvPr id="6" name="PlaceHolder 5"/>
          <p:cNvSpPr>
            <a:spLocks noGrp="1"/>
          </p:cNvSpPr>
          <p:nvPr>
            <p:ph type="dt" idx="1"/>
          </p:nvPr>
        </p:nvSpPr>
        <p:spPr/>
        <p:txBody>
          <a:bodyPr/>
          <a:p>
            <a:fld id="{A8BBAD9F-698D-40F8-BF06-93E8DE33A75E}"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way forward</a:t>
            </a: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s of thumb are second bes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the assumptions for your design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 them</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ine the test for new releas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Sceptic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0D2DFFCD-DBEB-48E1-BDAF-7E842E11E230}" type="slidenum">
              <a:t>13</a:t>
            </a:fld>
          </a:p>
        </p:txBody>
      </p:sp>
      <p:sp>
        <p:nvSpPr>
          <p:cNvPr id="6" name="PlaceHolder 5"/>
          <p:cNvSpPr>
            <a:spLocks noGrp="1"/>
          </p:cNvSpPr>
          <p:nvPr>
            <p:ph type="dt" idx="1"/>
          </p:nvPr>
        </p:nvSpPr>
        <p:spPr/>
        <p:txBody>
          <a:bodyPr/>
          <a:p>
            <a:fld id="{334CC3A1-5CFC-4723-BEC8-7338B49C1C5F}"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redits</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nnor McDonald – Choose_a_hit_ratio.sql www.oracledba.co.uk </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Jonathan  Lewis – how calculations of BCHR are wrong. http://www.jlcomp.demon.co.uk</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oward Rogers – Notes on separate data/indexes http://groups.google.com</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m Kyte – Compressible indexes and Index Skip Scan http://asktom.oracle.com</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Julian Dyke – Notes on compressible indexes</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olfgang Breitling – 10053 trace and what it means. www.hotsos.com </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My Site – near empty www.niall.litchfield.dial.pipex.com</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8A235886-D593-4A77-9539-6736788B1DC6}" type="slidenum">
              <a:t>14</a:t>
            </a:fld>
          </a:p>
        </p:txBody>
      </p:sp>
      <p:sp>
        <p:nvSpPr>
          <p:cNvPr id="6" name="PlaceHolder 5"/>
          <p:cNvSpPr>
            <a:spLocks noGrp="1"/>
          </p:cNvSpPr>
          <p:nvPr>
            <p:ph type="dt" idx="1"/>
          </p:nvPr>
        </p:nvSpPr>
        <p:spPr/>
        <p:txBody>
          <a:bodyPr/>
          <a:p>
            <a:fld id="{7E166AE7-28FD-4AFD-8A42-D332C41FF90A}"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Over to you</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4386B891-714E-481D-9304-C54BBABFCF97}" type="slidenum">
              <a:t>15</a:t>
            </a:fld>
          </a:p>
        </p:txBody>
      </p:sp>
      <p:sp>
        <p:nvSpPr>
          <p:cNvPr id="6" name="PlaceHolder 5"/>
          <p:cNvSpPr>
            <a:spLocks noGrp="1"/>
          </p:cNvSpPr>
          <p:nvPr>
            <p:ph type="dt" idx="1"/>
          </p:nvPr>
        </p:nvSpPr>
        <p:spPr/>
        <p:txBody>
          <a:bodyPr/>
          <a:p>
            <a:fld id="{34B8DEED-946D-48C6-AA41-9C2F5A8348FE}"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bbd71"/>
                </a:solidFill>
                <a:latin typeface="Arial"/>
              </a:rPr>
              <a:t>Mything In Action</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aging Oracle is a complex task.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rely on folklor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believe everything you rea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one screws up sometim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99AEB13A-966E-4766-BF57-B5573574103F}" type="slidenum">
              <a:t>2</a:t>
            </a:fld>
          </a:p>
        </p:txBody>
      </p:sp>
      <p:sp>
        <p:nvSpPr>
          <p:cNvPr id="6" name="PlaceHolder 5"/>
          <p:cNvSpPr>
            <a:spLocks noGrp="1"/>
          </p:cNvSpPr>
          <p:nvPr>
            <p:ph type="dt" idx="1"/>
          </p:nvPr>
        </p:nvSpPr>
        <p:spPr/>
        <p:txBody>
          <a:bodyPr/>
          <a:p>
            <a:fld id="{0184EB0E-4AB3-419A-BACC-7E83510F76C8}"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etting it right</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cument your aim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cument your assumption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 the strategi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Business’ not ‘Oracl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 your idea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497266CA-07F5-4124-A274-D78F9140A2EF}" type="slidenum">
              <a:t>3</a:t>
            </a:fld>
          </a:p>
        </p:txBody>
      </p:sp>
      <p:sp>
        <p:nvSpPr>
          <p:cNvPr id="6" name="PlaceHolder 5"/>
          <p:cNvSpPr>
            <a:spLocks noGrp="1"/>
          </p:cNvSpPr>
          <p:nvPr>
            <p:ph type="dt" idx="1"/>
          </p:nvPr>
        </p:nvSpPr>
        <p:spPr/>
        <p:txBody>
          <a:bodyPr/>
          <a:p>
            <a:fld id="{62FBB495-0002-41FF-AE52-71C47BDF8AEF}"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Myths</a:t>
            </a:r>
            <a:endParaRPr b="0" lang="en-US" sz="44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parating Data and Indexes improves performanc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igh cache hit ratio indicates good performanc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Use the most selective column first in a multi-column index</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tore objects in as few extents as possible, preferably on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t PCTIncrease to zero for tables and 1% for tablespac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9F7C9756-6089-4E5D-9CAA-46207CFA7B17}" type="slidenum">
              <a:t>4</a:t>
            </a:fld>
          </a:p>
        </p:txBody>
      </p:sp>
      <p:sp>
        <p:nvSpPr>
          <p:cNvPr id="6" name="PlaceHolder 5"/>
          <p:cNvSpPr>
            <a:spLocks noGrp="1"/>
          </p:cNvSpPr>
          <p:nvPr>
            <p:ph type="dt" idx="1"/>
          </p:nvPr>
        </p:nvSpPr>
        <p:spPr/>
        <p:txBody>
          <a:bodyPr/>
          <a:p>
            <a:fld id="{48D5DB29-E750-45EC-BD78-8D03438A4EAB}"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y do we believe all this?</a:t>
            </a:r>
            <a:endParaRPr b="0" lang="en-US" sz="44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ths almost all have a basis in fac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those facts may no longer be vali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don’t tes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believe “expert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8499A826-F9A7-48BD-9F7D-41A75D6C83FB}" type="slidenum">
              <a:t>5</a:t>
            </a:fld>
          </a:p>
        </p:txBody>
      </p:sp>
      <p:sp>
        <p:nvSpPr>
          <p:cNvPr id="6" name="PlaceHolder 5"/>
          <p:cNvSpPr>
            <a:spLocks noGrp="1"/>
          </p:cNvSpPr>
          <p:nvPr>
            <p:ph type="dt" idx="1"/>
          </p:nvPr>
        </p:nvSpPr>
        <p:spPr/>
        <p:txBody>
          <a:bodyPr/>
          <a:p>
            <a:fld id="{A38AB9DA-6CED-4DB3-94C1-1F2CF99FA59E}"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eparate Data and Indexes -1</a:t>
            </a:r>
            <a:endParaRPr b="0" lang="en-US" sz="44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asis – io distribu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al acces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user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E5558E6D-1EA0-4E0D-AA8B-9DE87D3E2893}" type="slidenum">
              <a:t>6</a:t>
            </a:fld>
          </a:p>
        </p:txBody>
      </p:sp>
      <p:sp>
        <p:nvSpPr>
          <p:cNvPr id="6" name="PlaceHolder 5"/>
          <p:cNvSpPr>
            <a:spLocks noGrp="1"/>
          </p:cNvSpPr>
          <p:nvPr>
            <p:ph type="dt" idx="1"/>
          </p:nvPr>
        </p:nvSpPr>
        <p:spPr/>
        <p:txBody>
          <a:bodyPr/>
          <a:p>
            <a:fld id="{A5807FA5-6A64-4380-8B29-5C42417557CA}"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eparate Data and Indexes -2</a:t>
            </a:r>
            <a:endParaRPr b="0" lang="en-US" sz="44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Filesystem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VM and Cached Controller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arent/Chil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ripe your io across devic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CD7DFE08-AE0D-40CE-8BB8-FAA9B2F2C90D}" type="slidenum">
              <a:t>7</a:t>
            </a:fld>
          </a:p>
        </p:txBody>
      </p:sp>
      <p:sp>
        <p:nvSpPr>
          <p:cNvPr id="6" name="PlaceHolder 5"/>
          <p:cNvSpPr>
            <a:spLocks noGrp="1"/>
          </p:cNvSpPr>
          <p:nvPr>
            <p:ph type="dt" idx="1"/>
          </p:nvPr>
        </p:nvSpPr>
        <p:spPr/>
        <p:txBody>
          <a:bodyPr/>
          <a:p>
            <a:fld id="{BCB8A608-E91C-49E0-9012-ACBEFD66E41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igh cache hit ratio is good</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basis – physical reads are expensive so minimise them </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cc66"/>
                </a:solidFill>
                <a:uFillTx/>
                <a:latin typeface="Tahoma"/>
                <a:hlinkClick r:id="rId1"/>
              </a:rPr>
              <a:t>So is logical io</a:t>
            </a:r>
            <a:r>
              <a:rPr b="0" lang="en-GB" sz="3200" spc="-1" strike="noStrike">
                <a:solidFill>
                  <a:srgbClr val="ffffff"/>
                </a:solidFill>
                <a:latin typeface="Tahoma"/>
              </a:rPr>
              <a:t> </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 Example </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o_faster.sql</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 to calculate BCHR. </a:t>
            </a:r>
            <a:br>
              <a:rPr sz="3200"/>
            </a:br>
            <a:r>
              <a:rPr b="0" lang="en-GB" sz="3200" spc="-1" strike="noStrike">
                <a:solidFill>
                  <a:srgbClr val="ffffff"/>
                </a:solidFill>
                <a:latin typeface="Tahoma"/>
              </a:rPr>
              <a:t>Buffer is pinned, sort direct writes? </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inimise your io. Perio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7D450203-D8D2-4FE3-9F8A-59DEB0C84190}" type="slidenum">
              <a:t>8</a:t>
            </a:fld>
          </a:p>
        </p:txBody>
      </p:sp>
      <p:sp>
        <p:nvSpPr>
          <p:cNvPr id="6" name="PlaceHolder 5"/>
          <p:cNvSpPr>
            <a:spLocks noGrp="1"/>
          </p:cNvSpPr>
          <p:nvPr>
            <p:ph type="dt" idx="1"/>
          </p:nvPr>
        </p:nvSpPr>
        <p:spPr/>
        <p:txBody>
          <a:bodyPr/>
          <a:p>
            <a:fld id="{4AED6D05-F23A-4CD1-A975-7AF809A1DC4C}"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Use the most selective column first</a:t>
            </a:r>
            <a:endParaRPr b="0" lang="en-US" sz="40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asis – </a:t>
            </a:r>
            <a:r>
              <a:rPr b="0" lang="en-US" sz="3200" spc="-1" strike="noStrike" u="sng">
                <a:solidFill>
                  <a:srgbClr val="ffcc66"/>
                </a:solidFill>
                <a:uFillTx/>
                <a:latin typeface="Tahoma"/>
                <a:hlinkClick r:id="rId1"/>
              </a:rPr>
              <a:t>the CBO will use the selectivity of the column to determine the usefulness of the index</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n’t as simple as th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Compressible index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ex Skip Sca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with the optimiser but know what it do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all Litchfield - Audit Commission</a:t>
            </a:r>
          </a:p>
        </p:txBody>
      </p:sp>
      <p:sp>
        <p:nvSpPr>
          <p:cNvPr id="5" name="PlaceHolder 4"/>
          <p:cNvSpPr>
            <a:spLocks noGrp="1"/>
          </p:cNvSpPr>
          <p:nvPr>
            <p:ph type="sldNum" idx="3"/>
          </p:nvPr>
        </p:nvSpPr>
        <p:spPr/>
        <p:txBody>
          <a:bodyPr/>
          <a:p>
            <a:fld id="{94294BB6-B1AC-4088-A4BE-25300CACBB7A}" type="slidenum">
              <a:t>9</a:t>
            </a:fld>
          </a:p>
        </p:txBody>
      </p:sp>
      <p:sp>
        <p:nvSpPr>
          <p:cNvPr id="6" name="PlaceHolder 5"/>
          <p:cNvSpPr>
            <a:spLocks noGrp="1"/>
          </p:cNvSpPr>
          <p:nvPr>
            <p:ph type="dt" idx="1"/>
          </p:nvPr>
        </p:nvSpPr>
        <p:spPr/>
        <p:txBody>
          <a:bodyPr/>
          <a:p>
            <a:fld id="{673103DF-9247-48BC-ADCF-F4823B0227B3}"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udit Commission</cp:lastModifiedBy>
  <dcterms:modified xsi:type="dcterms:W3CDTF">2003-06-05T06:57:34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